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0A8-21A5-48F2-AEBF-0606FD2E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1F8-17BD-4735-A0C8-8534EC8E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909-60E9-47F0-90E8-FAA8EE7E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68D-9AEB-4111-92C1-98399A40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F7F3-BC32-485E-B0A2-B9642FDB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913C-C1CB-4869-818C-872282A6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A44B-CED1-434D-962A-0110E21C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FA64-BD79-4313-A87E-1B660FAA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143E-3862-498C-A1C0-DE1DE783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D46A-74E5-462B-B99A-8B49AAC9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A096-AB8F-4CC7-822A-956E5941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ABD-45B7-42FC-9FDC-598182C8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2D9C-5A97-41E8-A27D-02A4445F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6F3E-FF95-4494-9C48-534C1C0E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CB66-22B3-4B1B-A992-50A96450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8E2D-0F68-4337-A9D2-E8B421B3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1C84-A570-44E8-963D-C97371B0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070-884F-42BE-BA3D-2F9741FB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660-F56F-437F-9EE4-4EE1C02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C05-EFF9-485C-B8EC-33E835B5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58D-607B-4B62-9722-DBA5D0E3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9C7-102B-4CA6-B60C-9DCC2E4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C55-477D-4530-B8D1-6FE18EE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887-8BFB-4261-99D2-BCD6797E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D49A-4B29-4A7F-9CEB-1521778A9B0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7F85-E2D9-40B5-B79E-87E7C272EE6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В и д ы    с п о р т а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114800" y="4495320"/>
            <a:ext cx="5029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Презентацию выполнила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Елфимова Анастасия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студентка 617 групп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Х 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у д о ж е с т в е н н а я    </a:t>
            </a:r>
            <a:br>
              <a:rPr sz="6000"/>
            </a:b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г и м н а с т и к а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2514600" cy="3809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rot="1287600">
            <a:off x="2362320" y="1904760"/>
            <a:ext cx="2085840" cy="2170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 rot="21289800">
            <a:off x="4425480" y="3374640"/>
            <a:ext cx="4496040" cy="325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 rot="20485800">
            <a:off x="2674800" y="4082760"/>
            <a:ext cx="1716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99"/>
                </a:solidFill>
                <a:latin typeface="Monotype Corsiva"/>
              </a:rPr>
              <a:t>С п а с и б о    з а    в н и м а н и е !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Ф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у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т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б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о</a:t>
            </a: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л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838080" y="1066680"/>
            <a:ext cx="7620120" cy="5791320"/>
          </a:xfrm>
          <a:prstGeom prst="rect">
            <a:avLst/>
          </a:prstGeom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Х о к к е й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Б о к с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Б о б с л е й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8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Ф и г у р н о е    к а т а н и е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200240"/>
            <a:ext cx="3867120" cy="5657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 rot="20899800">
            <a:off x="3505320" y="4419360"/>
            <a:ext cx="2438280" cy="2173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 rot="20861400">
            <a:off x="5028840" y="1523880"/>
            <a:ext cx="365760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Б а с к е т б о л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4762440" cy="3962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rot="20722800">
            <a:off x="3962520" y="1371600"/>
            <a:ext cx="2300040" cy="2438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В о л е й б о л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3371760"/>
            <a:ext cx="4457880" cy="3486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 rot="1381800">
            <a:off x="4495320" y="4343400"/>
            <a:ext cx="191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48006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Monotype Corsiva"/>
              </a:rPr>
              <a:t>А л ь п и н и з м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rot="965400">
            <a:off x="1980720" y="1599840"/>
            <a:ext cx="4762800" cy="3171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257800" y="4022640"/>
            <a:ext cx="38862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2-05-04T06:39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